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3A9-4180-4606-8F91-EB7A3F29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E6C-3CC1-479F-995A-FEB2F0CE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9E4-0C7D-45BE-BB9E-3DCB49B0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8595-3733-471F-8A68-9FD8C5D2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762C-1821-4975-B225-A98DC4FC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77D5-A26C-413E-95D7-69AE7F93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BE31-DC81-4823-9A19-CBC45DC2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1DE0-A02F-469F-BA00-EA6C0FD2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4551-09F5-49C8-AD72-1C5F3A29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21EE-DE06-4E26-9CB0-E1FD50B0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C20E-E0F8-4E97-A8A5-6999F4D4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5FA-7049-45CB-8A6C-A3449EE2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2DB1-6EF2-4AD3-BFBB-150AD08A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3149-A6BF-44E6-A0BA-33B73697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9B00-5354-4ED9-8FA5-253D2D81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3C2F-7797-40BF-A4BD-E1FD7AA6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50A7-EB2E-4609-9E92-B6F0C559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3F8-99D3-443B-8854-ED231975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9F3F-41DD-4637-9AF6-6BEDE70C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48E-A728-45BD-B56E-C066892A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AC1-CA2D-42FF-866F-B1C07305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529-51B3-4E16-9C05-667F3209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FA7-FA46-4412-9F17-16B4F542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E0E-332B-4AA3-B965-9E44D424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C011-34D9-4509-8AF8-ADC0E86D22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3F1D-C98E-44E4-B878-EBD28143BA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Bodoni MT Black"/>
              </a:rPr>
              <a:t>The Heimlich Maneuver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Jordan La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roduction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’s never a warning before a person gets an object caught in their throat and starts choking. Fortunately, there are effective techniques to deal with this emergency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10400" y="4476600"/>
            <a:ext cx="33336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oking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king is the body’s way of trying to remove a foreign object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auses of Choking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ing (especially eating and laughing at the same time, eating too fast, and failing to chew food well enough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cohol and drug consumption (even a small amount affects awareness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uma to the head and face (bleeding can cause chok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objects swallowed by children (beads, toys)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Lack of Oxygen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oxygen the brain can begin to die within 4 to 6 minutes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learning the Heimlich Maneuver-a simple life-saving technique-you may literally save the life of a choking vict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imlich Maneuver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imlich Maneuver is the most effective way to remove something stuck in an adult’s or older child’s throat. (Note: another technique is used for an infant, small child, or when someone becomes unconscious.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lifts the diaphragm and forces enough air from the lungs to remove the ob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47920" y="5638680"/>
            <a:ext cx="5562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en Do I Use The Heimlich?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 is grabbing the throat with the hand (the universal sign for choking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notice they are gagg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ear a weak ineffective cough, noisy breathing, or high-pitched sound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 is starting to look blu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915240" y="4267080"/>
            <a:ext cx="23050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How To Do The Heimlich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 behind the choking person and wrap your arm around his or her wai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 thumb side of the fist against middle of person’s abdomen just above the navel and well below the ri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 your fist into the person’s abdomen with quick, upward thrus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abdominal thrusts until the object is coughed u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33720" y="5181480"/>
            <a:ext cx="4438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lways remember…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the expulsion of the object keep the victim still and get medical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ications can arise from the incident or from the measures that were tak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9:19Z</dcterms:created>
  <dc:creator>766935</dc:creator>
  <dc:description/>
  <dc:language>en-US</dc:language>
  <cp:lastModifiedBy>766935</cp:lastModifiedBy>
  <dcterms:modified xsi:type="dcterms:W3CDTF">2008-10-31T15:35:39Z</dcterms:modified>
  <cp:revision>3</cp:revision>
  <dc:subject/>
  <dc:title>The Heimlich Maneuver </dc:title>
</cp:coreProperties>
</file>